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EF7-7379-4647-A722-9ACF5D3A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747-CFDF-4557-AC85-403D4A5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C02-D241-45E4-B999-FD36B0D1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D6D-5D09-44E8-A672-2F77EE43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DED-8849-4C42-9D12-C1849EC8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E794-6F59-434F-A169-D1645CB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9BC2-FB2A-4383-BDF7-6AB17D51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CC7E-9E95-4764-AD61-01A1207B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4BBA-1911-4B5D-B543-8FC5BC9E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963-8694-4CAC-B493-286A5237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8893-F4EF-4394-81F1-8C90DF9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A1B-4D5B-4A86-A06A-9AB82D52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9214-B4A2-4B53-B05D-CBD8DEC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678B-BB6D-4337-BB48-890C384B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FE4D-F4F1-4258-B03B-660AEA24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6DCF-8E66-462F-B489-756DB375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4A0E-D0B0-4C1E-BA5D-EE9BD45D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C4C-B5AF-4B5C-B7D9-8E93EE3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138-B6AF-462E-8AA2-A9830A2E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7F6-67A7-473E-A621-CB3AC535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5EA-EF4C-45F7-9965-07B9E74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BA5-02D2-448D-AEDE-FFA098C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953-ED70-41C1-8335-C83BAD0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FF2-7EF0-41BC-BE81-C8A660E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FF49-7DE3-4DEA-9A4A-7B6F48D4A051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2AF8-BEDC-4DFB-AEE3-2B9E933EE93B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otos-de-paisagens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aeaea"/>
                </a:solidFill>
                <a:latin typeface="Tahoma"/>
              </a:rPr>
              <a:t>MONTE CASTEL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64008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inda que eu falass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 língua dos home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falasse a língua dos anjos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em amor eu nada seria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05 Faixa 5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paisag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só o amor! É só o amo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Que conhece o que é verdad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amor é bom, não quer o mal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Não sente inveja ou se envaidece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0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amor é o fogo que arde sem se ve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ferida que dói e não se sente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um contentamento descontente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dor que desatina sem do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anjo-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280" y="83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inda que eu falass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 língua dos home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falasse a língua dos anjo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em amor eu nada s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eninoSolitar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um não querer mais que bem querer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solitário andar por entre a gen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um não contentar-se de contente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cuidar que se ganha em se perder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amor-de-ver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um estar-se preso por vontad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servir a quem vence, o vencedor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um ter com quem nos mata a leald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Tão contrário a si é o mesmo a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scrapsweb_amor-44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197000"/>
            <a:ext cx="7543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tou acordado e todos dormem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Todos dormem. Todos dormem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gora vejo em parte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s então veremos face a f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sorte-no-am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92000" y="198108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É só o amor! É só o amo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Que conhece o que é verda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aisagens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 falasse a língua dos anjos,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em amor eu nada s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58:52Z</dcterms:created>
  <dc:creator>SEDMS</dc:creator>
  <dc:description/>
  <dc:language>en-US</dc:language>
  <cp:lastModifiedBy>ACER</cp:lastModifiedBy>
  <dcterms:modified xsi:type="dcterms:W3CDTF">2010-10-19T22:04:56Z</dcterms:modified>
  <cp:revision>3</cp:revision>
  <dc:subject/>
  <dc:title>Monte castelo</dc:title>
</cp:coreProperties>
</file>